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324B-759E-4163-866D-ECBC4C6A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E13C-6952-4102-A94A-52D5E6E8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4468-F812-4F36-866B-9F2B7CD0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973-1FC6-4F92-BEFC-E74220EF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1F7-4B85-4869-90F9-5FC5B9A3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8862-EFBD-48A4-B8CA-1715FEF3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7E0-395B-4BCD-88F4-54BC10A7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672B-7129-47CD-9665-FA5BECD2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6F2F-CF81-4EC9-808A-765E7537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A42-F6C7-483E-9B95-A311BF1A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50E8-CFBA-44AF-9516-D24CFDFA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1A04-6E33-4959-8ACA-C8F1AD68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DC3C-D33B-414B-8885-42641727E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Arial"/>
              </a:rPr>
              <a:t>302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 Na teba zrak s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voj upier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-306000"/>
            <a:ext cx="112680" cy="12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81080" y="-360"/>
            <a:ext cx="950616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Na teba zrak svoj upieram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môj Pane s dôverou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mne priateľom si najlepším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a pevnou opor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13320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Strach, úzkosť mať už nemusím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ty môj si pevný hrad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chcem radostne ísť za tebou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žiť podľa tvojich rád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Ty, Pane o mňa verne dbáš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bdieš nado mnou, to viem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za tvoju lásku nesmiernu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ti vrúcne ďakujem.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6:56:09Z</dcterms:created>
  <dc:creator>Stano Slamka</dc:creator>
  <dc:description/>
  <dc:language>en-US</dc:language>
  <cp:lastModifiedBy>Stano Slamka</cp:lastModifiedBy>
  <dcterms:modified xsi:type="dcterms:W3CDTF">2006-11-23T17:04:06Z</dcterms:modified>
  <cp:revision>2</cp:revision>
  <dc:subject/>
  <dc:title>301  Keď svit slnka stráca jas</dc:title>
</cp:coreProperties>
</file>